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AEF-07CF-4C69-8275-5B5DEC89B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811-BB20-478D-950C-1C217A0A2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D84-58E2-4F03-9A5E-5F80BA761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B4A-90D2-4A2D-8970-E9C393B7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7096-7275-488D-B93C-EA3115157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10B-86A0-4EC0-8F85-D7C41CE6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F9A2-5F50-4F97-B7D7-C70F7D127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78C-9EC5-4B11-A924-84B9AFBE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BB5F-5177-444A-BFC9-DC99CEC45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357-66C2-4D4B-BE6A-8010374B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77DF-05A6-4657-9EF5-9B4DD7365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3F0-E7A1-4F93-8F80-0E67E559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C68-2DF4-4D74-BA54-482F81175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9604-F55E-4D57-AD78-60B0A1EF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D77-AB41-4768-8F24-FA38EE5C4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584-E694-4924-BDC0-8D5E8AB11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5046-8E1F-4417-AC4E-8E23ADB1B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CC16-EB21-44DA-9A40-6C60B4C6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98F-4667-41A1-8B40-4C512FEE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AAD-BD16-4DF3-AFF2-B136CCE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49F-EC16-4FF9-B530-1FB33073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176-98C0-4F21-B853-F7C91D2F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721-DF7A-44B8-8214-8F3059E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1A8-E330-46CD-8A0D-E42F18DC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92F-9888-48E9-AECD-A806A898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9D7-8F4D-4E81-BA96-F1F87F2E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10A-D89A-4085-B687-0D60E649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0A9-630F-4B69-B51C-006A281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B71-E3FE-48E5-AC48-139F829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22E-E105-4D5E-BF56-ADFF53E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608-1E45-40AC-A1DC-706DF1D491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171720"/>
            <a:ext cx="8839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ff"/>
                </a:solidFill>
                <a:latin typeface="Trebuchet MS"/>
              </a:rPr>
              <a:t>Teacher-of-Literac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5050"/>
                </a:solidFill>
                <a:latin typeface="Trebuchet MS"/>
              </a:rPr>
              <a:t>Direct and indirect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Literacy Key Skills 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iteracy logo"/>
          <p:cNvPicPr/>
          <p:nvPr/>
        </p:nvPicPr>
        <p:blipFill>
          <a:blip r:embed="rId1"/>
          <a:stretch/>
        </p:blipFill>
        <p:spPr>
          <a:xfrm>
            <a:off x="6407280" y="1773360"/>
            <a:ext cx="26287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08720" y="26370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ww.Teacher-of-Litera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297565[1]"/>
          <p:cNvPicPr/>
          <p:nvPr/>
        </p:nvPicPr>
        <p:blipFill>
          <a:blip r:embed="rId2"/>
          <a:stretch/>
        </p:blipFill>
        <p:spPr>
          <a:xfrm>
            <a:off x="1908000" y="2421000"/>
            <a:ext cx="5040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295280" y="762120"/>
            <a:ext cx="6400800" cy="4114800"/>
          </a:xfrm>
          <a:prstGeom prst="wedgeRoundRectCallout">
            <a:avLst>
              <a:gd name="adj1" fmla="val -3199"/>
              <a:gd name="adj2" fmla="val 78509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2514600" y="1066680"/>
            <a:ext cx="4562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and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In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Spe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eporting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1400" y="159984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 are two ways of reporting what somebody s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spe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(or reported)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629400" y="33526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365708[1]"/>
          <p:cNvPicPr/>
          <p:nvPr/>
        </p:nvPicPr>
        <p:blipFill>
          <a:blip r:embed="rId1"/>
          <a:stretch/>
        </p:blipFill>
        <p:spPr>
          <a:xfrm>
            <a:off x="6443640" y="4413240"/>
            <a:ext cx="2471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flipH="1">
            <a:off x="380160" y="2209680"/>
            <a:ext cx="3886200" cy="2895840"/>
          </a:xfrm>
          <a:prstGeom prst="wedgeEllipseCallout">
            <a:avLst>
              <a:gd name="adj1" fmla="val -40893"/>
              <a:gd name="adj2" fmla="val 89856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297180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direct speech we use the speaker’s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572000" y="2590920"/>
            <a:ext cx="190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ext we put speech marks around the words spo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0" y="2590920"/>
            <a:ext cx="1676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ech marks are also called inverted com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In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ndirect speech (sometimes called reported speech) we do not use the exact words of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we report what was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ometimes need to change pronouns and verb tenses. We don’t use speech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50920" y="5229360"/>
            <a:ext cx="3124080" cy="1218960"/>
          </a:xfrm>
          <a:prstGeom prst="wedgeEllipseCallout">
            <a:avLst>
              <a:gd name="adj1" fmla="val 33282"/>
              <a:gd name="adj2" fmla="val 4739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am going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81280" y="5334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len said she was going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unctuating Direct Spee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using direct speech in your writing you need to use the correct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xact words spoken must be enclosed in speech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word of the speech must begin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ds in the speech marks must be separated from the rest of the sentence by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use a new line when a new speaker begins to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sing Speech in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speech in fiction and non-fiction writing adds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writing out long pieces of direct speech can make your writing confusing. It also slows down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can summarise what the speaker has said so that the action moves along more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is useful when you want a contrast between what a character says and what he or she is thinking. (e.g. Lady Mac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dvantages and disadvantages of each type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show what a character i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speeches can be b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 many speakers can confuse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add variety to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speech can be summarised briefly so that it does not slow down the pace of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show a contrast between what a character is saying and what he or she is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writing use mainly reported speech. Use direct speech only to emphasise the main points your characters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bore and confuse your readers by writing out long conversations between your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should be used spar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most effective when only the most forceful statements are put into direct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3:52:34Z</dcterms:created>
  <dc:creator>Martin</dc:creator>
  <dc:description/>
  <dc:language>en-US</dc:language>
  <cp:lastModifiedBy>MNugent</cp:lastModifiedBy>
  <dcterms:modified xsi:type="dcterms:W3CDTF">2013-02-23T14:41:37Z</dcterms:modified>
  <cp:revision>2</cp:revision>
  <dc:subject/>
  <dc:title>Slide 1</dc:title>
</cp:coreProperties>
</file>